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D6C3-E5AD-464C-B82A-BA7664332B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6648-350B-4B07-A6B9-2651EB4FC9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626-0C9A-44F0-8812-A4AB5C92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101-C1BB-47DF-9B87-121B463E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F86-A2A9-4DF3-84D9-01C339B3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F68-4C32-41E5-9328-CC6D3BA4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8F1E-E469-403F-AD8E-984A1109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2ED8-9A43-4F26-9843-60862764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8485-B1F1-4F4F-BF5C-FEA18073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FB0C-4B83-438F-9B01-5D84C94D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2660-90B6-427E-9B44-83B452EE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76E6-D1A3-4D51-99E3-C3BDA3FF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600F-C74E-483E-B4CF-5F22122A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E86-5461-4307-B44A-B6C6AA28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B710-6D71-4C8F-8F4B-E540ED61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E141-B971-48D6-B7A7-7CA48CF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1AB0-815A-4E8C-A1A8-B83DAC83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E8E6-343E-4D6C-814F-E46A5D3C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3D4A-789F-4576-B0C6-573C4580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216-3DE4-4D2B-83CD-F55D7596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AC2-5E27-4771-8FBE-08DDE170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E66-86E0-4B8A-AE94-BE47202A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554-996C-4182-968B-136B8F0B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F1F-3223-48EA-A7DA-3FB08B20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DBB-E61B-4126-AECF-CA8F4D8D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83F-8C32-4D0A-A66E-12130773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7911-ED71-4D96-A1B0-A4A980F8D070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olny kształt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olny kształt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2BB1-EF42-4F83-A313-07AAA7F5666C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ole tekstowe 1" descr=""/>
          <p:cNvPicPr/>
          <p:nvPr/>
        </p:nvPicPr>
        <p:blipFill>
          <a:blip r:embed="rId1"/>
          <a:stretch/>
        </p:blipFill>
        <p:spPr>
          <a:xfrm>
            <a:off x="334800" y="895320"/>
            <a:ext cx="8332920" cy="468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s://encrypted-tbn1.gstatic.com/images?q=tbn:ANd9GcSVRYlmgnr1d05-Gim7rK21-oSzp-4zFq1FglqTpu3XhFOhW6CGVw"/>
          <p:cNvPicPr/>
          <p:nvPr/>
        </p:nvPicPr>
        <p:blipFill>
          <a:blip r:embed="rId2"/>
          <a:stretch/>
        </p:blipFill>
        <p:spPr>
          <a:xfrm>
            <a:off x="4200480" y="3840120"/>
            <a:ext cx="3675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upload.wikimedia.org/wikipedia/commons/thumb/3/38/Bisection.svg/250px-Bisection.svg.png"/>
          <p:cNvPicPr/>
          <p:nvPr/>
        </p:nvPicPr>
        <p:blipFill>
          <a:blip r:embed="rId1"/>
          <a:stretch/>
        </p:blipFill>
        <p:spPr>
          <a:xfrm>
            <a:off x="1571760" y="3286080"/>
            <a:ext cx="5398920" cy="31100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4"/>
          <p:cNvSpPr/>
          <p:nvPr/>
        </p:nvSpPr>
        <p:spPr>
          <a:xfrm>
            <a:off x="285840" y="71424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usieczna kąta, to półprosta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oczątku w wierzchołku kąta, która dzieli ten kąt na dwa kąty przystają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1447920" y="1219320"/>
            <a:ext cx="3961440" cy="4086720"/>
            <a:chOff x="1447920" y="1219320"/>
            <a:chExt cx="3961440" cy="4086720"/>
          </a:xfrm>
        </p:grpSpPr>
        <p:sp>
          <p:nvSpPr>
            <p:cNvPr id="107" name="Freeform 3"/>
            <p:cNvSpPr/>
            <p:nvPr/>
          </p:nvSpPr>
          <p:spPr>
            <a:xfrm>
              <a:off x="1890720" y="1683000"/>
              <a:ext cx="3505320" cy="320040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3200400"/>
                <a:gd name="textAreaBottom" fmla="*/ 3200760 h 3200400"/>
              </a:gdLst>
              <a:ahLst/>
              <a:rect l="textAreaLeft" t="textAreaTop" r="textAreaRight" b="textAreaBottom"/>
              <a:pathLst>
                <a:path w="2208" h="2016">
                  <a:moveTo>
                    <a:pt x="0" y="1392"/>
                  </a:moveTo>
                  <a:lnTo>
                    <a:pt x="2208" y="0"/>
                  </a:lnTo>
                  <a:lnTo>
                    <a:pt x="2160" y="2016"/>
                  </a:lnTo>
                  <a:lnTo>
                    <a:pt x="0" y="139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1447920" y="1219320"/>
              <a:ext cx="3961440" cy="4086720"/>
              <a:chOff x="1447920" y="1219320"/>
              <a:chExt cx="3961440" cy="4086720"/>
            </a:xfrm>
          </p:grpSpPr>
          <p:grpSp>
            <p:nvGrpSpPr>
              <p:cNvPr id="109" name="Group 5"/>
              <p:cNvGrpSpPr/>
              <p:nvPr/>
            </p:nvGrpSpPr>
            <p:grpSpPr>
              <a:xfrm>
                <a:off x="1828800" y="1676520"/>
                <a:ext cx="3580560" cy="3195360"/>
                <a:chOff x="1828800" y="1676520"/>
                <a:chExt cx="3580560" cy="3195360"/>
              </a:xfrm>
            </p:grpSpPr>
            <p:grpSp>
              <p:nvGrpSpPr>
                <p:cNvPr id="110" name="Group 6"/>
                <p:cNvGrpSpPr/>
                <p:nvPr/>
              </p:nvGrpSpPr>
              <p:grpSpPr>
                <a:xfrm>
                  <a:off x="1904400" y="1676520"/>
                  <a:ext cx="3504960" cy="3195360"/>
                  <a:chOff x="1904400" y="1676520"/>
                  <a:chExt cx="3504960" cy="3195360"/>
                </a:xfrm>
              </p:grpSpPr>
              <p:sp>
                <p:nvSpPr>
                  <p:cNvPr id="111" name="Line 7"/>
                  <p:cNvSpPr/>
                  <p:nvPr/>
                </p:nvSpPr>
                <p:spPr>
                  <a:xfrm flipV="1">
                    <a:off x="1904400" y="1676520"/>
                    <a:ext cx="3504960" cy="220824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8"/>
                  <p:cNvSpPr/>
                  <p:nvPr/>
                </p:nvSpPr>
                <p:spPr>
                  <a:xfrm>
                    <a:off x="1904400" y="3884760"/>
                    <a:ext cx="3375000" cy="98712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Oval 9"/>
                <p:cNvSpPr/>
                <p:nvPr/>
              </p:nvSpPr>
              <p:spPr>
                <a:xfrm>
                  <a:off x="4952520" y="1828800"/>
                  <a:ext cx="15192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0"/>
                <p:cNvSpPr/>
                <p:nvPr/>
              </p:nvSpPr>
              <p:spPr>
                <a:xfrm>
                  <a:off x="1828800" y="3810240"/>
                  <a:ext cx="151920" cy="15228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11"/>
                <p:cNvSpPr/>
                <p:nvPr/>
              </p:nvSpPr>
              <p:spPr>
                <a:xfrm>
                  <a:off x="4419000" y="4572000"/>
                  <a:ext cx="15228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Text Box 12"/>
              <p:cNvSpPr/>
              <p:nvPr/>
            </p:nvSpPr>
            <p:spPr>
              <a:xfrm>
                <a:off x="1447920" y="35816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3"/>
              <p:cNvSpPr/>
              <p:nvPr/>
            </p:nvSpPr>
            <p:spPr>
              <a:xfrm>
                <a:off x="4876560" y="12193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>
                <a:off x="4267080" y="4724640"/>
                <a:ext cx="38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Oval 15"/>
          <p:cNvSpPr/>
          <p:nvPr/>
        </p:nvSpPr>
        <p:spPr>
          <a:xfrm>
            <a:off x="152280" y="2057400"/>
            <a:ext cx="3581640" cy="35812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3200400" y="2286000"/>
            <a:ext cx="1011240" cy="2858760"/>
            <a:chOff x="3200400" y="2286000"/>
            <a:chExt cx="1011240" cy="2858760"/>
          </a:xfrm>
        </p:grpSpPr>
        <p:sp>
          <p:nvSpPr>
            <p:cNvPr id="121" name="Oval 17"/>
            <p:cNvSpPr/>
            <p:nvPr/>
          </p:nvSpPr>
          <p:spPr>
            <a:xfrm>
              <a:off x="3352680" y="2819520"/>
              <a:ext cx="152280" cy="15228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8"/>
            <p:cNvSpPr/>
            <p:nvPr/>
          </p:nvSpPr>
          <p:spPr>
            <a:xfrm>
              <a:off x="3581280" y="4343400"/>
              <a:ext cx="152280" cy="15264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200400" y="2286000"/>
              <a:ext cx="650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B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3429000" y="4496040"/>
              <a:ext cx="782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A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21"/>
          <p:cNvSpPr/>
          <p:nvPr/>
        </p:nvSpPr>
        <p:spPr>
          <a:xfrm>
            <a:off x="1600200" y="1066680"/>
            <a:ext cx="3651120" cy="365148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1828800" y="2590920"/>
            <a:ext cx="3651120" cy="365112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Konstrukcja dwusiecznej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867280" y="762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3300"/>
                </a:solidFill>
                <a:latin typeface="Times New Roman"/>
              </a:rPr>
              <a:t>Opis konstruk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791320" y="1071720"/>
            <a:ext cx="33526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. Dany jest kąt A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. Zakreślamy okrąg o środku S  i dowolnym promien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 Otrzymujemy punkty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i 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przecięcia tego okręgu z ramionami ką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4. Konstruujemy symetralną odcinka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 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5. Część wspólna tej symetralnej i kąta ASB jest poszukiwaną dwusiecz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Łącznik prosty 31"/>
          <p:cNvSpPr/>
          <p:nvPr/>
        </p:nvSpPr>
        <p:spPr>
          <a:xfrm flipV="1">
            <a:off x="214200" y="3214440"/>
            <a:ext cx="5857920" cy="92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Łącznik prosty 33"/>
          <p:cNvSpPr/>
          <p:nvPr/>
        </p:nvSpPr>
        <p:spPr>
          <a:xfrm>
            <a:off x="3428280" y="2971800"/>
            <a:ext cx="228600" cy="1371600"/>
          </a:xfrm>
          <a:prstGeom prst="line">
            <a:avLst/>
          </a:prstGeom>
          <a:ln w="424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1"/>
          <p:cNvSpPr/>
          <p:nvPr/>
        </p:nvSpPr>
        <p:spPr>
          <a:xfrm>
            <a:off x="357120" y="50004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żdy punkt dwusiecznej kąta jest jednakowo oddalony od ramion tego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interklasa.pl/portal/dokumenty/geom6/geometria6/prezentacja/obrazki/ka10.gif"/>
          <p:cNvPicPr/>
          <p:nvPr/>
        </p:nvPicPr>
        <p:blipFill>
          <a:blip r:embed="rId1"/>
          <a:stretch/>
        </p:blipFill>
        <p:spPr>
          <a:xfrm>
            <a:off x="500040" y="2359080"/>
            <a:ext cx="7680240" cy="34257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3"/>
          <p:cNvSpPr/>
          <p:nvPr/>
        </p:nvSpPr>
        <p:spPr>
          <a:xfrm>
            <a:off x="714240" y="5857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E| = |CD|, |FH| = |FG|, |KM| = |KL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rostokąt 1"/>
          <p:cNvSpPr/>
          <p:nvPr/>
        </p:nvSpPr>
        <p:spPr>
          <a:xfrm>
            <a:off x="357120" y="1000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adani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en z kątów trójkąta prostokątnego ma miarę 7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wusieczna tego kąta dzieli trójkąt na dwa trójkąty. Oblicz miary kątów tych trójką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2"/>
          <p:cNvSpPr/>
          <p:nvPr/>
        </p:nvSpPr>
        <p:spPr>
          <a:xfrm>
            <a:off x="357120" y="221472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wiązanie: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ójkąt prostokątny podany w zadani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dajspisac.pl/sites/default/files/dajs40.jpg"/>
          <p:cNvPicPr/>
          <p:nvPr/>
        </p:nvPicPr>
        <p:blipFill>
          <a:blip r:embed="rId1"/>
          <a:stretch/>
        </p:blipFill>
        <p:spPr>
          <a:xfrm>
            <a:off x="500040" y="2928960"/>
            <a:ext cx="5643720" cy="253368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4"/>
          <p:cNvSpPr/>
          <p:nvPr/>
        </p:nvSpPr>
        <p:spPr>
          <a:xfrm>
            <a:off x="85716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=9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=7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=2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dajspisac.pl/sites/default/files/dajs41.jpg"/>
          <p:cNvPicPr/>
          <p:nvPr/>
        </p:nvPicPr>
        <p:blipFill>
          <a:blip r:embed="rId1"/>
          <a:stretch/>
        </p:blipFill>
        <p:spPr>
          <a:xfrm>
            <a:off x="2357280" y="785880"/>
            <a:ext cx="5322960" cy="245088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2"/>
          <p:cNvSpPr/>
          <p:nvPr/>
        </p:nvSpPr>
        <p:spPr>
          <a:xfrm>
            <a:off x="214200" y="2928960"/>
            <a:ext cx="7858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 - dwusieczna ką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B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=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½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α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B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D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2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D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06:42:16Z</dcterms:created>
  <dc:creator>zdzisiek</dc:creator>
  <dc:description/>
  <dc:language>en-US</dc:language>
  <cp:lastModifiedBy>Ania</cp:lastModifiedBy>
  <dcterms:modified xsi:type="dcterms:W3CDTF">2013-07-10T06:21:37Z</dcterms:modified>
  <cp:revision>15</cp:revision>
  <dc:subject/>
  <dc:title>Slajd 1</dc:title>
</cp:coreProperties>
</file>